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9415-37B6-44F1-994B-E80898335FE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39AB-0B21-4E13-90A4-BE65DC889EE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E2159-282E-452C-808F-2ED38BC5A9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7BC9A-0DD7-42AE-8991-09448268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FF52B-F090-4BE7-A80C-C5FD13D1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2A66E-8349-438A-98A0-613A591FC3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84365-E8C0-4652-BFBC-9EEA6C57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DF13B-5868-4A46-9902-8243747B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E6276-DCAF-4A31-AF53-4D465F1D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74A1E-00BB-4A13-9561-324D1867D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BE4D4-1FE2-4138-9635-A8D43C3F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D8280-C6CD-4433-99A1-FFBEE34A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B1CF8-E355-4CCD-9661-F9A718B8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FE221-2ED2-445D-9169-08CBBCFE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8A38-7E54-4277-863C-E9A4E1D903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820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与疾病相关的辅助检查，并完善常规术前检查的结果，例如血、尿、粪便常规，凝血功能，血型及交叉配血试验，血液生化，心电图检查，影像学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资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恐惧手术、担忧手术风险、经济负担较重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的需要量） 与禁食或摄入不足、机体消耗增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手术、麻醉、术前准备等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完善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控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留置胃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和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者应继续服用降压药物，避免戒断综合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压过高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80/100mmHg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应选用适合的降压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者给予抗心律失常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心肌梗塞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择期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力衰竭者最好在心力衰竭控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后再进行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吸烟者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停止吸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进行呼吸训练，可以减少肺部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阻塞性肺功能不全及哮喘，应及时用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痰液黏稠者，行雾化吸入或服用药物稀释痰液，利于咳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急性呼吸道感染者，择期手术应推迟到治愈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重度肺功能不全合并感染者，采取综合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围术期护理概念、手术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各种常见手术区皮肤准备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手术室的分区、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不适及并发症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内只放置必需用物且位置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类用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单类均采用高压蒸气灭菌，保存时间夏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本器械，采用高压蒸气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核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铺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的刷洗和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前患者生理方面的一般常规准备和特殊准备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巡回护士和器械护士的职责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后患者一般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手术前期、中期和后期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641760" y="220500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876840" y="2133720"/>
            <a:ext cx="5267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619280" y="306864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763640" y="306864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今天早晨，该患者被推入手术室，在全身麻醉下接受肝癌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在手术过程中，巡回护士和器械护士分别要承担哪些职责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污染手术的隔离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患者从确定手术治疗时起，到与这次手术有关的治疗基本结束的这段时期。包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阶段：手术前期、手术期、手术后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的手术顺利完成，安返病房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回到病房后，主要护理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创伤、切口疼痛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患者卧床、活动量减少、疼痛、呼吸运动受限和使用镇静剂等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术后禁食、分解代谢旺盛及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术后出血、感染、深静脉血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接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患者的病情和耐受程度，鼓励其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患者摄入合理均衡的饮食，避免生硬及辛辣刺激性食物休息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需继续治疗者，指导患者遵医嘱正确服药，定期复查肝肾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，活动量应从小到大、循序渐进，根据自身体质及术后恢复情况来制订活动计划，不易过度疲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于手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了解机体的康复程度及切口愈合情况。出现特殊情况时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包括术前护理、术中护理和术后护理。手术分为择期手术、限期手术、急诊手术三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前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前患者应做好①心理护理；②一般准备，如饮食与营养、环境与休息、协助完善术前检查、术前适应性训练、呼吸道准备、胃肠道准备、输血和补液、预防感染、手术区皮肤准备、术日晨护理等；③特殊准备，主要针对合并糖尿病、高血压等特殊情况患者进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中期患者的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的布局、设置、分区（非洁净区、准洁净区、洁净区）都有严格要求。手术人员必须遵守手术室的管理和消毒灭菌制度。患者的手术体位由手术部位所决定，术前应严格做好手术区皮肤消毒和手术区铺单。参加手术人员必须遵循外科手消毒、穿脱无菌手术衣、戴无菌手套和脱手套的方法要求。术前要严格认真核对患者各项信息，避免错误发生。手术室器械护士和巡回护士做好手术配合，遵循术中无菌操作原则，认真清点手术器械，确保手术顺利完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后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包括：①一般护理：交接患者、安置体位、病情观察、饮食与营养、切口护理、引流管护理、活动、心理护理；②术后常见不适的观察和护理，如切口疼痛、恶心呕吐、发热、腹胀、呃逆、尿潴留等的护理；③术后并发症的观察和护理，如出血、切口感染、切口裂开、肺部感染、尿路感染、深静脉血栓形成等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右上腹持续性胀痛不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入院。自述患糖尿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药控制血糖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肝右肋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触及，质硬，边界不清，肝区叩击痛明显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肝右后叶回声不均匀增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：白细胞、红细胞和血小板均减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被明确诊断为肝癌，拟在全麻下行肝癌切除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手术前护理评估内容有哪些？②术前护理的重点内容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所患疾病的临床表现，进行全面的体格检查，了解有无心血管系统、呼吸系统、消化系统或泌尿系统等重要系统功能异常的表现，以判断所患疾病的严重程度和患者对手术的耐受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6:05Z</dcterms:modified>
  <cp:revision>99</cp:revision>
  <dc:subject/>
  <dc:title>内科护理学</dc:title>
</cp:coreProperties>
</file>